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4DB-45F6-4709-BE97-0F70DFD2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841-59AF-455C-97CF-471C3E2D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D63-E87B-4CD0-8200-77CBB048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C0B-2802-4E99-AD93-BD53E8EC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855A-FC02-489E-B519-4A01A9A6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D76B-136A-46FC-9FAD-55BDC5D9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CECA-24BB-428E-84E6-6780ADA5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A3D7-3F12-476C-8EF7-19286E46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6FAE-FC18-4AD2-81A6-3A26821C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3727-9129-48F7-B90E-06C9C831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0BB4-032F-4ABE-965F-F12A5045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547-21C0-425B-86A1-5508A032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CBA3-3256-4CFB-9B18-C366BCB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90B3-2120-45E2-9239-38CF0F99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2F8F-A517-410D-96A8-78800B09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081E-4272-439B-8161-74128C2C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B5F1-338F-4A69-A552-9929EA71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39B-C3A8-4977-A1A2-F8EA0D8C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CD8-24BF-4A9E-99F5-EB43177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A72-2D98-4D2A-863A-05694764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1E1-E19F-46F9-84D2-33ABD396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AF12-C631-4E5A-8CBE-985582F9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EEF-2209-49E8-B7C8-95F2CBDD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2CC-20CC-478D-99B3-0B266F98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B3B7-21AD-46EB-BC8D-5D850876344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8B5D-204C-40AA-BE86-9EA79E85D6F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righton Deba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Flowing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low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Take a piece of paper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Fold it in half lengthwise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Fold it in half again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Fold it in half again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Do the same thing to 2 other pieces of paper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low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n one page write: Inherency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n another: Harms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n the other: Solvency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low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ith your papers unfolded and the fold lines running top to bottom, write across the top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1AC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2NC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2AC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2NC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1NR 1AR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2NR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2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this to all three pag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low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t’s flow a debate.  We need two very organized volunteer teams to deba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pic:  Appropriate Clothing for Schoo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ffirmative:  Strict clothing rules or even unifor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gative:  Where what we wan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low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iming and Structur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AC, 1NC, 2AC, 2NC = 3 minutes eac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NR, 1AR, 2NR, 2AR = 2 minutes eac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 CX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2:19:08Z</dcterms:created>
  <dc:creator>Mark Greer</dc:creator>
  <dc:description/>
  <dc:language>en-US</dc:language>
  <cp:lastModifiedBy>Mark Greer</cp:lastModifiedBy>
  <dcterms:modified xsi:type="dcterms:W3CDTF">2010-11-21T22:48:05Z</dcterms:modified>
  <cp:revision>2</cp:revision>
  <dc:subject/>
  <dc:title>Brighton Debate</dc:title>
</cp:coreProperties>
</file>